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20.wmf" ContentType="image/x-wmf"/>
  <Override PartName="/ppt/media/image32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16.wmf" ContentType="image/x-wmf"/>
  <Override PartName="/ppt/media/image45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42.jpeg" ContentType="image/jpeg"/>
  <Override PartName="/ppt/media/image51.png" ContentType="image/png"/>
  <Override PartName="/ppt/media/image43.wmf" ContentType="image/x-wmf"/>
  <Override PartName="/ppt/media/image13.jpeg" ContentType="image/jpeg"/>
  <Override PartName="/ppt/media/image23.png" ContentType="image/png"/>
  <Override PartName="/ppt/media/image44.jpeg" ContentType="image/jpeg"/>
  <Override PartName="/ppt/media/image47.jpeg" ContentType="image/jpeg"/>
  <Override PartName="/ppt/media/image39.png" ContentType="image/png"/>
  <Override PartName="/ppt/media/image50.png" ContentType="image/png"/>
  <Override PartName="/ppt/media/image12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6.jpeg" ContentType="image/jpeg"/>
  <Override PartName="/ppt/media/image5.wmf" ContentType="image/x-wmf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41E-651B-4AEA-B4D9-3E4F6590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9B7-A7F7-4481-93DA-F13CD944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4AE-AA8F-442A-9D06-C2266E37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C01-C0F8-43A6-AA9B-157BE19D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B96-A085-4D6D-97C3-7D0320D8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3FCD-4E1C-484B-8859-B6FFEC1B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C63-AFFA-4D62-A7FD-E1C46DDB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BAB-8567-441B-920C-DD37F68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2DE0-61E2-44FE-ABED-D05025E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8E3-98A7-46F5-B73F-A7D3CFD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7DCC-1EBE-4E45-ABC8-1606D13C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546-4FB6-44F7-80AE-D9131E8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F7E-4B9A-4D1F-B755-B7775A0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3A53-C070-49D9-B681-B8754B7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C50-741B-48A8-B988-FA1E1247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10B7-7C59-45BD-8827-5C6D478D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E0A-2078-47F1-B0CA-37BE0EC9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2E2A-27B2-466B-96A0-B46D801A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059E-B927-440C-BB0A-4CCB24D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53E1-77FD-4B72-AAD2-B6D789B3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83B7-E2D4-4520-90E3-B839E1E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7706-2F59-4044-9C25-CCB5F81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07D-7DB7-483C-9656-C5397773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4A33-0C8A-4C7D-A49F-29DD4BCE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02D1-BC02-46FA-B100-4AB6A31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D530-22E9-4E88-8AA2-024E6C7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568F-EC8D-412D-B381-5EF2421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A5F3-FEF0-457C-8D2B-26E15BC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A14F-9DCA-41C8-94C7-97C5CAF1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1417-E2C3-451C-88E8-1FAE2CB8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DC2-3D6B-4BDF-BE8B-BA2F837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7F9-3B96-4CC7-A3EC-84CB617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795-FAEB-4792-9D76-80BF2B2B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DE4-BA4C-4E68-9576-7E416A7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F9A-00D5-4F5F-A99C-9391B50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535-4DFB-4937-89B9-8D3EF2C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tr-TR" sz="5600" spc="-1" strike="noStrike">
                <a:solidFill>
                  <a:srgbClr val="50e0ea"/>
                </a:solidFill>
                <a:latin typeface="Calibri"/>
              </a:rPr>
              <a:t>Asıl başlık stili için tıklatın</a:t>
            </a:r>
            <a:endParaRPr b="0" lang="tr-TR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A1707-3143-4C27-B92C-3DC7F6EAD291}" type="slidenum">
              <a:rPr b="0" lang="tr-TR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tr-TR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tr-TR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5782EC-F01C-4BEC-9EDB-C7A11B8AD8D5}" type="slidenum"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sıl başlık stili için tıklatın</a:t>
            </a:r>
            <a:endParaRPr b="0" lang="tr-TR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sıl metin stillerini düzenlemek için tıklatın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İkinci düzey</a:t>
            </a:r>
            <a:endParaRPr b="0" lang="tr-TR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Üçüncü düzey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ördüncü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Beşinci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sıl metin stillerini düzenlemek için tıklatın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İkinci düzey</a:t>
            </a:r>
            <a:endParaRPr b="0" lang="tr-TR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Üçüncü düzey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ördüncü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Beşinci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A6B2A-EC8C-4285-90E2-9FBCF165223F}" type="slidenum"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antifunclup.com/uploads/%5B7495182443842129%5Dilyas-salman.jpg&amp;imgrefurl=http://www.antifunclup.com/anti-ilyas-salman-fun-clup.html&amp;usg=__qwBLcd8GA_qBOTyV8ZoX6OiJRko=&amp;h=450&amp;w=300&amp;sz=19&amp;hl=tr&amp;start=1&amp;zoom=1&amp;itbs=1&amp;tbnid=2pSufgg4rIHRUM:&amp;tbnh=127&amp;tbnw=85&amp;prev=/images?q=&#304;LYAS+SALMAN&amp;hl=tr&amp;gbv=2&amp;tbs=isch: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com.tr/imgres?imgurl=http://video.imlahatasi.com/wp-content/resimler/tarkan-sevdanin-son-vurusu.jpg&amp;imgrefurl=http://video.imlahatasi.com/23-mart-varmisin-yokmusun-tarkanin-kutusu-500-bin-tl.html&amp;usg=__w44weTIGC72glzcTeWqQ1JqEvpA=&amp;h=348&amp;w=433&amp;sz=25&amp;hl=tr&amp;start=2&amp;zoom=1&amp;itbs=1&amp;tbnid=1Gqx2Rc0JO9XaM:&amp;tbnh=101&amp;tbnw=126&amp;prev=/images?q=TARKAN&amp;hl=tr&amp;gbv=2&amp;tbs=isch: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ciftcioglumobilya.com/pics/masa-sandalyeler/kizil_sabit_masa.jpg&amp;imgrefurl=http://www.ciftcioglumobilya.com/masa-ve-sandalyeler.htm&amp;usg=__e3ZPhxrx0eUTlE4Pecteqx-zDYY=&amp;h=335&amp;w=590&amp;sz=20&amp;hl=tr&amp;start=20&amp;zoom=1&amp;itbs=1&amp;tbnid=ANDXdARcf6mtUM:&amp;tbnh=77&amp;tbnw=135&amp;prev=/images?q=MASA&amp;hl=tr&amp;gbv=2&amp;tbs=isch:1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google.com.tr/imgres?imgurl=http://www.sistemsan.com/urunler/okul_siralari/cift_kisilik_kayin_sira/cift_kisilik_kayin_sira1.jpg&amp;imgrefurl=http://www.sistemsan.com/cift_kisilik_kayin_sira.html&amp;usg=__5zryVcVIPRX5alIV2nuWRUhU7io=&amp;h=356&amp;w=400&amp;sz=41&amp;hl=tr&amp;start=1&amp;zoom=1&amp;itbs=1&amp;tbnid=GPyFWSbOGJei_M:&amp;tbnh=110&amp;tbnw=124&amp;prev=/images?q=SIRA&amp;hl=tr&amp;gbv=2&amp;tbs=isch:1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img1.loadtr.com/b-370333-k&#305;rm&#305;z&#305;_spor_bayan_&#231;anta.jpg&amp;imgrefurl=http://www.loadtr.com/370333-k&#305;rm&#305;z&#305;_spor_bayan_&#231;anta.htm&amp;usg=__axf2DlMq1TWQmNOrZLHEgqaCMoc=&amp;h=328&amp;w=300&amp;sz=19&amp;hl=tr&amp;start=1&amp;zoom=1&amp;itbs=1&amp;tbnid=Rgy4vFMBlok6OM:&amp;tbnh=118&amp;tbnw=108&amp;prev=/images?q=&#199;ANTA&amp;hl=tr&amp;gbv=2&amp;tbs=isch:1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google.com.tr/imgres?imgurl=http://img1.loadtr.com/b-370333-k&#305;rm&#305;z&#305;_spor_bayan_&#231;anta.jpg&amp;imgrefurl=http://www.loadtr.com/370333-k&#305;rm&#305;z&#305;_spor_bayan_&#231;anta.htm&amp;usg=__axf2DlMq1TWQmNOrZLHEgqaCMoc=&amp;h=328&amp;w=300&amp;sz=19&amp;hl=tr&amp;start=1&amp;zoom=1&amp;itbs=1&amp;tbnid=Rgy4vFMBlok6OM:&amp;tbnh=118&amp;tbnw=108&amp;prev=/images?q=&#199;ANTA&amp;hl=tr&amp;gbv=2&amp;tbs=isch:1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guzelhobiler.com/wp-content/uploads/2009/01/maket-ev.jpg&amp;imgrefurl=http://www.guzelhobiler.com/maketcilik/ev/cok-guzel-bir-kir-evi-maketi/&amp;usg=__P3CIY2hvR8XVhzyOC30zrTIBb_8=&amp;h=403&amp;w=568&amp;sz=41&amp;hl=tr&amp;start=16&amp;zoom=1&amp;itbs=1&amp;tbnid=1nCbjQ6l_ba_7M:&amp;tbnh=95&amp;tbnw=134&amp;prev=/images?q=EV&amp;hl=tr&amp;gbv=2&amp;tbs=isch:1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google.com.tr/imgres?imgurl=http://www.guzelhobiler.com/wp-content/uploads/2009/01/maket-ev.jpg&amp;imgrefurl=http://www.guzelhobiler.com/maketcilik/ev/cok-guzel-bir-kir-evi-maketi/&amp;usg=__P3CIY2hvR8XVhzyOC30zrTIBb_8=&amp;h=403&amp;w=568&amp;sz=41&amp;hl=tr&amp;start=16&amp;zoom=1&amp;itbs=1&amp;tbnid=1nCbjQ6l_ba_7M:&amp;tbnh=95&amp;tbnw=134&amp;prev=/images?q=EV&amp;hl=tr&amp;gbv=2&amp;tbs=isch:1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img.diytrade.com/cdimg/765734/6504504/0/1217303644/aluminum_mountain_bike.jpg&amp;imgrefurl=http://www.r10.net/alisveris-bolumu/438136-bisiklet-satan.html&amp;usg=__cpwg9_0aQMd52coD4HPZchcVGGU=&amp;h=394&amp;w=394&amp;sz=25&amp;hl=tr&amp;start=2&amp;zoom=1&amp;itbs=1&amp;tbnid=mj5mGEz2nGEtsM:&amp;tbnh=124&amp;tbnw=124&amp;prev=/images?q=BENZER+B&#304;S&#304;KLETLER&amp;hl=tr&amp;gbv=2&amp;tbs=isch:1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com.tr/imgres?imgurl=http://farm4.static.flickr.com/3134/2382607824_957258f04a.jpg&amp;imgrefurl=http://www.bisikletforum.com/showthread.php?t=46106&amp;usg=__8h8aYEGjtZHmeYQezQpX2wQt9zE=&amp;h=354&amp;w=500&amp;sz=67&amp;hl=tr&amp;start=6&amp;zoom=1&amp;itbs=1&amp;tbnid=-J-KNcjLn7kk2M:&amp;tbnh=92&amp;tbnw=130&amp;prev=/images?q=BENZER+B&#304;S&#304;KLETLER&amp;hl=tr&amp;gbv=2&amp;tbs=isch:1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karniyarik.com/img/Porselen-Kupa-Bardak-5266.png?v=http://www.alisveris.com/ProductImages/Di&#287;er/125387/125387_1_360x360.jpg&amp;imgrefurl=http://www.karniyarik.com/&#252;r&#252;n/ne-kadar/Bardaklar+Porselen+Kupa&amp;usg=__HYIK1aNMbB1vSd7MwinRoOGjJbo=&amp;h=360&amp;w=360&amp;sz=13&amp;hl=tr&amp;start=16&amp;zoom=1&amp;itbs=1&amp;tbnid=Dhr7ix7TxXUvNM:&amp;tbnh=121&amp;tbnw=121&amp;prev=/images?q=BENZER+BARDAKLAR&amp;hl=tr&amp;gbv=2&amp;tbs=isch:1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google.com.tr/imgres?imgurl=http://www.blogyum.org/images/users/ugrasi/ezilmis-adam-bardak-altligi.png&amp;imgrefurl=http://ezilmis-adam-bardak-altligi.blogyum.org/&amp;usg=__ITotj45XDT8Z0F4BxNRoux7sLC0=&amp;h=430&amp;w=390&amp;sz=126&amp;hl=tr&amp;start=3&amp;zoom=1&amp;itbs=1&amp;tbnid=0rdKGuBYkAPp9M:&amp;tbnh=126&amp;tbnw=114&amp;prev=/images?q=BENZER+BARDAKLAR&amp;hl=tr&amp;gbv=2&amp;tbs=isch:1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com.tr/imgres?imgurl=http://www.yeniresimler.net/data/media/364/yasli_insan.jpg&amp;imgrefurl=http://www.yeniresimler.net/details.php?image_id=5046&amp;sessionid=3b5d01c54d497f4c71d56c2766316474&amp;usg=__psB6q78uH7o3rfL52z8MD8MkxEo=&amp;h=1000&amp;w=747&amp;sz=81&amp;hl=tr&amp;start=2&amp;zoom=1&amp;itbs=1&amp;tbnid=xTFoaqjXoE2kwM:&amp;tbnh=149&amp;tbnw=111&amp;prev=/images?q=YA&#350;LI&amp;hl=tr&amp;gbv=2&amp;tbs=isch: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3640" y="2133000"/>
            <a:ext cx="7851240" cy="2507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AS…AS</a:t>
            </a:r>
            <a:br>
              <a:rPr sz="5400"/>
            </a:b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DIFFERENT FROM…</a:t>
            </a:r>
            <a:br>
              <a:rPr sz="5400"/>
            </a:b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THE SAME AS…</a:t>
            </a:r>
            <a:endParaRPr b="0" lang="tr-TR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hacoco\Local Settings\Temporary Internet Files\Content.IE5\YZUJI52B\MC900295500[1].wmf"/>
          <p:cNvPicPr/>
          <p:nvPr/>
        </p:nvPicPr>
        <p:blipFill>
          <a:blip r:embed="rId1"/>
          <a:stretch/>
        </p:blipFill>
        <p:spPr>
          <a:xfrm>
            <a:off x="899640" y="620640"/>
            <a:ext cx="3280320" cy="3285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hacoco\Local Settings\Temporary Internet Files\Content.IE5\A7QJZ07W\MC900237622[1].wmf"/>
          <p:cNvPicPr/>
          <p:nvPr/>
        </p:nvPicPr>
        <p:blipFill>
          <a:blip r:embed="rId2"/>
          <a:stretch/>
        </p:blipFill>
        <p:spPr>
          <a:xfrm>
            <a:off x="4788000" y="836640"/>
            <a:ext cx="2808000" cy="2884680"/>
          </a:xfrm>
          <a:prstGeom prst="rect">
            <a:avLst/>
          </a:prstGeom>
          <a:ln w="0">
            <a:noFill/>
          </a:ln>
        </p:spPr>
      </p:pic>
      <p:sp>
        <p:nvSpPr>
          <p:cNvPr id="175" name="3 Metin kutusu"/>
          <p:cNvSpPr/>
          <p:nvPr/>
        </p:nvSpPr>
        <p:spPr>
          <a:xfrm>
            <a:off x="715320" y="4509000"/>
            <a:ext cx="773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chair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isn’t as comfortabl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n arm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t2.gstatic.com/images?q=tbn:2pSufgg4rIHRU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916920"/>
            <a:ext cx="3528000" cy="3426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1.gstatic.com/images?q=tbn:1Gqx2Rc0JO9Xa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4000" y="1196640"/>
            <a:ext cx="3772440" cy="3024000"/>
          </a:xfrm>
          <a:prstGeom prst="rect">
            <a:avLst/>
          </a:prstGeom>
          <a:ln w="0">
            <a:noFill/>
          </a:ln>
        </p:spPr>
      </p:pic>
      <p:sp>
        <p:nvSpPr>
          <p:cNvPr id="178" name="3 Metin kutusu"/>
          <p:cNvSpPr/>
          <p:nvPr/>
        </p:nvSpPr>
        <p:spPr>
          <a:xfrm>
            <a:off x="1630440" y="4365000"/>
            <a:ext cx="503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Ilyas Salman                                      Tar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etin kutusu"/>
          <p:cNvSpPr/>
          <p:nvPr/>
        </p:nvSpPr>
        <p:spPr>
          <a:xfrm>
            <a:off x="642960" y="4941000"/>
            <a:ext cx="742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Ilyas Salman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isn’t as handsom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Tar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hacoco\Local Settings\Temporary Internet Files\Content.IE5\F8SR00MZ\MC900221743[1].wmf"/>
          <p:cNvPicPr/>
          <p:nvPr/>
        </p:nvPicPr>
        <p:blipFill>
          <a:blip r:embed="rId1"/>
          <a:stretch/>
        </p:blipFill>
        <p:spPr>
          <a:xfrm>
            <a:off x="539640" y="604800"/>
            <a:ext cx="3744000" cy="203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hacoco\Local Settings\Temporary Internet Files\Content.IE5\A7QJZ07W\MC900250168[1].wmf"/>
          <p:cNvPicPr/>
          <p:nvPr/>
        </p:nvPicPr>
        <p:blipFill>
          <a:blip r:embed="rId2"/>
          <a:stretch/>
        </p:blipFill>
        <p:spPr>
          <a:xfrm>
            <a:off x="4860000" y="3861000"/>
            <a:ext cx="3611520" cy="2134080"/>
          </a:xfrm>
          <a:prstGeom prst="rect">
            <a:avLst/>
          </a:prstGeom>
          <a:ln w="0">
            <a:noFill/>
          </a:ln>
        </p:spPr>
      </p:pic>
      <p:sp>
        <p:nvSpPr>
          <p:cNvPr id="182" name="3 Metin kutusu"/>
          <p:cNvSpPr/>
          <p:nvPr/>
        </p:nvSpPr>
        <p:spPr>
          <a:xfrm>
            <a:off x="4400640" y="1628640"/>
            <a:ext cx="8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etin kutusu"/>
          <p:cNvSpPr/>
          <p:nvPr/>
        </p:nvSpPr>
        <p:spPr>
          <a:xfrm>
            <a:off x="3711240" y="5301360"/>
            <a:ext cx="1013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Rab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5 Metin kutusu"/>
          <p:cNvSpPr/>
          <p:nvPr/>
        </p:nvSpPr>
        <p:spPr>
          <a:xfrm>
            <a:off x="1259640" y="2709000"/>
            <a:ext cx="676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urtl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fast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rab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6 Metin kutusu"/>
          <p:cNvSpPr/>
          <p:nvPr/>
        </p:nvSpPr>
        <p:spPr>
          <a:xfrm>
            <a:off x="1968840" y="3429000"/>
            <a:ext cx="4933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rabbit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slow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ur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etin kutusu"/>
          <p:cNvSpPr/>
          <p:nvPr/>
        </p:nvSpPr>
        <p:spPr>
          <a:xfrm>
            <a:off x="539640" y="1052640"/>
            <a:ext cx="62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2) DIFFERENT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Documents and Settings\hacoco\Local Settings\Temporary Internet Files\Content.IE5\A7QJZ07W\MP900433172[1].jpg"/>
          <p:cNvPicPr/>
          <p:nvPr/>
        </p:nvPicPr>
        <p:blipFill>
          <a:blip r:embed="rId1"/>
          <a:stretch/>
        </p:blipFill>
        <p:spPr>
          <a:xfrm>
            <a:off x="827640" y="1628640"/>
            <a:ext cx="3456000" cy="346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hacoco\Local Settings\Temporary Internet Files\Content.IE5\4OUHU2E2\MC900252465[1].wmf"/>
          <p:cNvPicPr/>
          <p:nvPr/>
        </p:nvPicPr>
        <p:blipFill>
          <a:blip r:embed="rId2"/>
          <a:stretch/>
        </p:blipFill>
        <p:spPr>
          <a:xfrm>
            <a:off x="5148000" y="1700640"/>
            <a:ext cx="2592000" cy="2905920"/>
          </a:xfrm>
          <a:prstGeom prst="rect">
            <a:avLst/>
          </a:prstGeom>
          <a:ln w="0">
            <a:noFill/>
          </a:ln>
        </p:spPr>
      </p:pic>
      <p:sp>
        <p:nvSpPr>
          <p:cNvPr id="189" name="4 Metin kutusu"/>
          <p:cNvSpPr/>
          <p:nvPr/>
        </p:nvSpPr>
        <p:spPr>
          <a:xfrm>
            <a:off x="1403640" y="5013000"/>
            <a:ext cx="64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laptop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Documents and Settings\hacoco\Local Settings\Temporary Internet Files\Content.IE5\4OUHU2E2\MC900432579[1].png"/>
          <p:cNvPicPr/>
          <p:nvPr/>
        </p:nvPicPr>
        <p:blipFill>
          <a:blip r:embed="rId1"/>
          <a:stretch/>
        </p:blipFill>
        <p:spPr>
          <a:xfrm>
            <a:off x="5004000" y="3357000"/>
            <a:ext cx="2836440" cy="262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Documents and Settings\hacoco\Local Settings\Temporary Internet Files\Content.IE5\A7QJZ07W\MC900325282[1].wmf"/>
          <p:cNvPicPr/>
          <p:nvPr/>
        </p:nvPicPr>
        <p:blipFill>
          <a:blip r:embed="rId2"/>
          <a:stretch/>
        </p:blipFill>
        <p:spPr>
          <a:xfrm>
            <a:off x="4788000" y="404640"/>
            <a:ext cx="3260160" cy="2304000"/>
          </a:xfrm>
          <a:prstGeom prst="rect">
            <a:avLst/>
          </a:prstGeom>
          <a:ln w="0">
            <a:noFill/>
          </a:ln>
        </p:spPr>
      </p:pic>
      <p:sp>
        <p:nvSpPr>
          <p:cNvPr id="192" name="3 Metin kutusu"/>
          <p:cNvSpPr/>
          <p:nvPr/>
        </p:nvSpPr>
        <p:spPr>
          <a:xfrm>
            <a:off x="6096960" y="2781000"/>
            <a:ext cx="58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4 Metin kutusu"/>
          <p:cNvSpPr/>
          <p:nvPr/>
        </p:nvSpPr>
        <p:spPr>
          <a:xfrm>
            <a:off x="6322680" y="5805360"/>
            <a:ext cx="8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Metin kutusu"/>
          <p:cNvSpPr/>
          <p:nvPr/>
        </p:nvSpPr>
        <p:spPr>
          <a:xfrm>
            <a:off x="473760" y="2781000"/>
            <a:ext cx="4114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pen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pen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hacoco\Local Settings\Temporary Internet Files\Content.IE5\YZUJI52B\MC900297589[1].wmf"/>
          <p:cNvPicPr/>
          <p:nvPr/>
        </p:nvPicPr>
        <p:blipFill>
          <a:blip r:embed="rId1"/>
          <a:stretch/>
        </p:blipFill>
        <p:spPr>
          <a:xfrm>
            <a:off x="1331640" y="1340640"/>
            <a:ext cx="308304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hacoco\Local Settings\Temporary Internet Files\Content.IE5\4OUHU2E2\MC900334440[1].wmf"/>
          <p:cNvPicPr/>
          <p:nvPr/>
        </p:nvPicPr>
        <p:blipFill>
          <a:blip r:embed="rId2"/>
          <a:stretch/>
        </p:blipFill>
        <p:spPr>
          <a:xfrm>
            <a:off x="6156000" y="1556640"/>
            <a:ext cx="2016000" cy="2468520"/>
          </a:xfrm>
          <a:prstGeom prst="rect">
            <a:avLst/>
          </a:prstGeom>
          <a:ln w="0">
            <a:noFill/>
          </a:ln>
        </p:spPr>
      </p:pic>
      <p:sp>
        <p:nvSpPr>
          <p:cNvPr id="197" name="3 Metin kutusu"/>
          <p:cNvSpPr/>
          <p:nvPr/>
        </p:nvSpPr>
        <p:spPr>
          <a:xfrm>
            <a:off x="1863000" y="4005000"/>
            <a:ext cx="561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elephone                                                Mobile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4 Metin kutusu"/>
          <p:cNvSpPr/>
          <p:nvPr/>
        </p:nvSpPr>
        <p:spPr>
          <a:xfrm>
            <a:off x="1472760" y="4869000"/>
            <a:ext cx="696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mobile phone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ele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t3.gstatic.com/images?q=tbn:ANDXdARcf6mtU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640" y="1556640"/>
            <a:ext cx="4248000" cy="2422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1.gstatic.com/images?q=tbn:GPyFWSbOGJei_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63320" y="1214280"/>
            <a:ext cx="3064680" cy="2718360"/>
          </a:xfrm>
          <a:prstGeom prst="rect">
            <a:avLst/>
          </a:prstGeom>
          <a:ln w="0">
            <a:noFill/>
          </a:ln>
        </p:spPr>
      </p:pic>
      <p:sp>
        <p:nvSpPr>
          <p:cNvPr id="201" name="3 Metin kutusu"/>
          <p:cNvSpPr/>
          <p:nvPr/>
        </p:nvSpPr>
        <p:spPr>
          <a:xfrm>
            <a:off x="1043640" y="4077000"/>
            <a:ext cx="72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            </a:t>
            </a: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able                                                     Desk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4 Metin kutusu"/>
          <p:cNvSpPr/>
          <p:nvPr/>
        </p:nvSpPr>
        <p:spPr>
          <a:xfrm>
            <a:off x="1833480" y="4869000"/>
            <a:ext cx="559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table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1 Metin kutusu"/>
          <p:cNvSpPr/>
          <p:nvPr/>
        </p:nvSpPr>
        <p:spPr>
          <a:xfrm>
            <a:off x="539640" y="112464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3) THE SAME A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C:\Documents and Settings\hacoco\Local Settings\Temporary Internet Files\Content.IE5\4OUHU2E2\MP900262969[1].jpg"/>
          <p:cNvPicPr/>
          <p:nvPr/>
        </p:nvPicPr>
        <p:blipFill>
          <a:blip r:embed="rId1"/>
          <a:stretch/>
        </p:blipFill>
        <p:spPr>
          <a:xfrm>
            <a:off x="2123640" y="1845000"/>
            <a:ext cx="4779720" cy="3194280"/>
          </a:xfrm>
          <a:prstGeom prst="rect">
            <a:avLst/>
          </a:prstGeom>
          <a:ln w="0">
            <a:noFill/>
          </a:ln>
        </p:spPr>
      </p:pic>
      <p:sp>
        <p:nvSpPr>
          <p:cNvPr id="205" name="5 Metin kutusu"/>
          <p:cNvSpPr/>
          <p:nvPr/>
        </p:nvSpPr>
        <p:spPr>
          <a:xfrm>
            <a:off x="2627640" y="5229360"/>
            <a:ext cx="35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Cindy and Linda are t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6 Metin kutusu"/>
          <p:cNvSpPr/>
          <p:nvPr/>
        </p:nvSpPr>
        <p:spPr>
          <a:xfrm>
            <a:off x="2089080" y="5661360"/>
            <a:ext cx="484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Cindy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Li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t0.gstatic.com/images?q=tbn:Rgy4vFMBlok6O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640" y="764640"/>
            <a:ext cx="2622600" cy="286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t0.gstatic.com/images?q=tbn:Rgy4vFMBlok6O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6000" y="692640"/>
            <a:ext cx="2622600" cy="2865600"/>
          </a:xfrm>
          <a:prstGeom prst="rect">
            <a:avLst/>
          </a:prstGeom>
          <a:ln w="0">
            <a:noFill/>
          </a:ln>
        </p:spPr>
      </p:pic>
      <p:sp>
        <p:nvSpPr>
          <p:cNvPr id="209" name="3 Metin kutusu"/>
          <p:cNvSpPr/>
          <p:nvPr/>
        </p:nvSpPr>
        <p:spPr>
          <a:xfrm>
            <a:off x="1881720" y="3645000"/>
            <a:ext cx="539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Leyla’s bag                                                  Lale’s 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etin kutusu"/>
          <p:cNvSpPr/>
          <p:nvPr/>
        </p:nvSpPr>
        <p:spPr>
          <a:xfrm>
            <a:off x="1679760" y="4509000"/>
            <a:ext cx="5698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Leyla’s bag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Lale’s ba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Metin kutusu"/>
          <p:cNvSpPr/>
          <p:nvPr/>
        </p:nvSpPr>
        <p:spPr>
          <a:xfrm>
            <a:off x="2930400" y="5157360"/>
            <a:ext cx="3440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They are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t3.gstatic.com/images?q=tbn:1nCbjQ6l_ba_7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692640"/>
            <a:ext cx="3596400" cy="254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t3.gstatic.com/images?q=tbn:1nCbjQ6l_ba_7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789000"/>
            <a:ext cx="3596400" cy="2549520"/>
          </a:xfrm>
          <a:prstGeom prst="rect">
            <a:avLst/>
          </a:prstGeom>
          <a:ln w="0">
            <a:noFill/>
          </a:ln>
        </p:spPr>
      </p:pic>
      <p:sp>
        <p:nvSpPr>
          <p:cNvPr id="214" name="3 Metin kutusu"/>
          <p:cNvSpPr/>
          <p:nvPr/>
        </p:nvSpPr>
        <p:spPr>
          <a:xfrm>
            <a:off x="5393160" y="3285000"/>
            <a:ext cx="1708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Funda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Metin kutusu"/>
          <p:cNvSpPr/>
          <p:nvPr/>
        </p:nvSpPr>
        <p:spPr>
          <a:xfrm>
            <a:off x="7164360" y="5589360"/>
            <a:ext cx="129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lin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Metin kutusu"/>
          <p:cNvSpPr/>
          <p:nvPr/>
        </p:nvSpPr>
        <p:spPr>
          <a:xfrm>
            <a:off x="393840" y="1340640"/>
            <a:ext cx="4039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Funda’s hous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Pelin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7 Metin kutusu"/>
          <p:cNvSpPr/>
          <p:nvPr/>
        </p:nvSpPr>
        <p:spPr>
          <a:xfrm>
            <a:off x="228240" y="2565000"/>
            <a:ext cx="425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Funda’s and Pelin’s ho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etin kutusu"/>
          <p:cNvSpPr/>
          <p:nvPr/>
        </p:nvSpPr>
        <p:spPr>
          <a:xfrm>
            <a:off x="899640" y="1196640"/>
            <a:ext cx="46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1) AS….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:\Documents and Settings\hacoco\Local Settings\Temporary Internet Files\Content.IE5\4OUHU2E2\MP900427655[1].jpg"/>
          <p:cNvPicPr/>
          <p:nvPr/>
        </p:nvPicPr>
        <p:blipFill>
          <a:blip r:embed="rId1"/>
          <a:stretch/>
        </p:blipFill>
        <p:spPr>
          <a:xfrm>
            <a:off x="611640" y="2133000"/>
            <a:ext cx="3635640" cy="2641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hacoco\Local Settings\Temporary Internet Files\Content.IE5\YZUJI52B\MP900402444[1].jpg"/>
          <p:cNvPicPr/>
          <p:nvPr/>
        </p:nvPicPr>
        <p:blipFill>
          <a:blip r:embed="rId2"/>
          <a:stretch/>
        </p:blipFill>
        <p:spPr>
          <a:xfrm>
            <a:off x="5100840" y="2061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43" name="8 Metin kutusu"/>
          <p:cNvSpPr/>
          <p:nvPr/>
        </p:nvSpPr>
        <p:spPr>
          <a:xfrm>
            <a:off x="1259640" y="4869000"/>
            <a:ext cx="655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yse’s cat                                    Merve’s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 Metin kutusu"/>
          <p:cNvSpPr/>
          <p:nvPr/>
        </p:nvSpPr>
        <p:spPr>
          <a:xfrm>
            <a:off x="1475640" y="551736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yse’s cat is </a:t>
            </a:r>
            <a:r>
              <a:rPr b="1" lang="tr-TR" sz="2400" spc="-1" strike="noStrike">
                <a:solidFill>
                  <a:srgbClr val="00b050"/>
                </a:solidFill>
                <a:latin typeface="Kristen ITC"/>
              </a:rPr>
              <a:t>as pretty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rve’s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http://www.hepmodamagazin.com/wp-content/uploads/2009/08/ayni-elbise.jpg"/>
          <p:cNvPicPr/>
          <p:nvPr/>
        </p:nvPicPr>
        <p:blipFill>
          <a:blip r:embed="rId1"/>
          <a:stretch/>
        </p:blipFill>
        <p:spPr>
          <a:xfrm>
            <a:off x="1187640" y="548640"/>
            <a:ext cx="5760360" cy="4253040"/>
          </a:xfrm>
          <a:prstGeom prst="rect">
            <a:avLst/>
          </a:prstGeom>
          <a:ln w="0">
            <a:noFill/>
          </a:ln>
        </p:spPr>
      </p:pic>
      <p:sp>
        <p:nvSpPr>
          <p:cNvPr id="219" name="4 Metin kutusu"/>
          <p:cNvSpPr/>
          <p:nvPr/>
        </p:nvSpPr>
        <p:spPr>
          <a:xfrm>
            <a:off x="1115640" y="4869000"/>
            <a:ext cx="63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JENNA ELFMAN          CHARLIZE TH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Metin kutusu"/>
          <p:cNvSpPr/>
          <p:nvPr/>
        </p:nvSpPr>
        <p:spPr>
          <a:xfrm>
            <a:off x="527040" y="5661360"/>
            <a:ext cx="791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Jenna’s dress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Charlize Theron’s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www.yelizindunyasi.com/wp-content/uploads/2009/03/ysl-topshop.jpg"/>
          <p:cNvPicPr/>
          <p:nvPr/>
        </p:nvPicPr>
        <p:blipFill>
          <a:blip r:embed="rId1"/>
          <a:stretch/>
        </p:blipFill>
        <p:spPr>
          <a:xfrm>
            <a:off x="1547640" y="692640"/>
            <a:ext cx="4485960" cy="3457080"/>
          </a:xfrm>
          <a:prstGeom prst="rect">
            <a:avLst/>
          </a:prstGeom>
          <a:ln w="0">
            <a:noFill/>
          </a:ln>
        </p:spPr>
      </p:pic>
      <p:sp>
        <p:nvSpPr>
          <p:cNvPr id="222" name="2 Metin kutusu"/>
          <p:cNvSpPr/>
          <p:nvPr/>
        </p:nvSpPr>
        <p:spPr>
          <a:xfrm>
            <a:off x="539640" y="2277000"/>
            <a:ext cx="102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Sho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Metin kutusu"/>
          <p:cNvSpPr/>
          <p:nvPr/>
        </p:nvSpPr>
        <p:spPr>
          <a:xfrm>
            <a:off x="6047640" y="2997000"/>
            <a:ext cx="9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Sho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 Metin kutusu"/>
          <p:cNvSpPr/>
          <p:nvPr/>
        </p:nvSpPr>
        <p:spPr>
          <a:xfrm>
            <a:off x="1969920" y="4725000"/>
            <a:ext cx="4594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Shoe A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sho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Metin kutusu"/>
          <p:cNvSpPr/>
          <p:nvPr/>
        </p:nvSpPr>
        <p:spPr>
          <a:xfrm>
            <a:off x="2005920" y="5445360"/>
            <a:ext cx="45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400" spc="-1" strike="noStrike">
                <a:solidFill>
                  <a:srgbClr val="000000"/>
                </a:solidFill>
                <a:latin typeface="Kristen ITC"/>
              </a:rPr>
              <a:t>(= Shoe A is </a:t>
            </a:r>
            <a:r>
              <a:rPr b="1" lang="tr-TR" sz="2400" spc="-1" strike="noStrike">
                <a:solidFill>
                  <a:srgbClr val="00b050"/>
                </a:solidFill>
                <a:latin typeface="Kristen ITC"/>
              </a:rPr>
              <a:t>similar to </a:t>
            </a:r>
            <a:r>
              <a:rPr b="1" i="1" lang="tr-TR" sz="2400" spc="-1" strike="noStrike">
                <a:solidFill>
                  <a:srgbClr val="000000"/>
                </a:solidFill>
                <a:latin typeface="Kristen ITC"/>
              </a:rPr>
              <a:t>Shoe 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t2.gstatic.com/images?q=tbn:mj5mGEz2nGEts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7640" y="908640"/>
            <a:ext cx="3168000" cy="316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t2.gstatic.com/images?q=tbn:-J-KNcjLn7kk2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65200" y="1124640"/>
            <a:ext cx="3967920" cy="2808000"/>
          </a:xfrm>
          <a:prstGeom prst="rect">
            <a:avLst/>
          </a:prstGeom>
          <a:ln w="0">
            <a:noFill/>
          </a:ln>
        </p:spPr>
      </p:pic>
      <p:sp>
        <p:nvSpPr>
          <p:cNvPr id="228" name="3 Metin kutusu"/>
          <p:cNvSpPr/>
          <p:nvPr/>
        </p:nvSpPr>
        <p:spPr>
          <a:xfrm>
            <a:off x="611640" y="3933000"/>
            <a:ext cx="69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om’s bike                                                   Martin’s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Metin kutusu"/>
          <p:cNvSpPr/>
          <p:nvPr/>
        </p:nvSpPr>
        <p:spPr>
          <a:xfrm>
            <a:off x="1788840" y="5013000"/>
            <a:ext cx="640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om’s bik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artin’s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3.gstatic.com/images?q=tbn:Dhr7ix7TxXUvN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764640"/>
            <a:ext cx="3528000" cy="352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t2.gstatic.com/images?q=tbn:0rdKGuBYkAPp9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000" y="1124640"/>
            <a:ext cx="3493800" cy="2955600"/>
          </a:xfrm>
          <a:prstGeom prst="rect">
            <a:avLst/>
          </a:prstGeom>
          <a:ln w="0">
            <a:noFill/>
          </a:ln>
        </p:spPr>
      </p:pic>
      <p:sp>
        <p:nvSpPr>
          <p:cNvPr id="232" name="3 Metin kutusu"/>
          <p:cNvSpPr/>
          <p:nvPr/>
        </p:nvSpPr>
        <p:spPr>
          <a:xfrm>
            <a:off x="1746360" y="4005000"/>
            <a:ext cx="567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Bill’s mug                                                      Terry’s m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 Metin kutusu"/>
          <p:cNvSpPr/>
          <p:nvPr/>
        </p:nvSpPr>
        <p:spPr>
          <a:xfrm>
            <a:off x="2008440" y="5013000"/>
            <a:ext cx="608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Bill’s mug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erry’s m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5 Metin kutusu"/>
          <p:cNvSpPr/>
          <p:nvPr/>
        </p:nvSpPr>
        <p:spPr>
          <a:xfrm>
            <a:off x="2593080" y="5589360"/>
            <a:ext cx="4718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hey ar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similar to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6864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r>
              <a:rPr b="0" lang="tr-TR" sz="4400" spc="-1" strike="noStrike">
                <a:solidFill>
                  <a:srgbClr val="04617b"/>
                </a:solidFill>
                <a:latin typeface="Kristen ITC"/>
              </a:rPr>
              <a:t>EXERCISES</a:t>
            </a: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tr-TR" sz="2000" spc="-1" strike="noStrike" u="sng">
                <a:solidFill>
                  <a:srgbClr val="04617b"/>
                </a:solidFill>
                <a:uFillTx/>
                <a:latin typeface="Kristen ITC"/>
              </a:rPr>
              <a:t>Use“as….as-the same as-different from, smilar to</a:t>
            </a:r>
            <a:br>
              <a:rPr sz="5000"/>
            </a:b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3812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2512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DVD (100Ytl)              VCD(40Ytl)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1-A DVD isn’t …………..    a VCD,actually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it is very ………….. a VCD,because it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plays both CD and DVD.But,it isn’t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..cheap….A VCD.</a:t>
            </a:r>
            <a:r>
              <a:rPr b="1" i="1" lang="tr-TR" sz="2000" spc="-1" strike="noStrike">
                <a:solidFill>
                  <a:srgbClr val="00b050"/>
                </a:solidFill>
                <a:latin typeface="Kristen ITC"/>
              </a:rPr>
              <a:t> 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7640" y="2061000"/>
            <a:ext cx="1650600" cy="71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2411640" y="2277000"/>
            <a:ext cx="1636200" cy="719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266360" y="711720"/>
            <a:ext cx="61056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3"/>
          <a:stretch/>
        </p:blipFill>
        <p:spPr>
          <a:xfrm>
            <a:off x="4716000" y="2061000"/>
            <a:ext cx="1448640" cy="1067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http://images.google.com.tr/images?q=tbn:FvzPTG_Ldq7D1M:www.hwcdsb.edu.on.ca/stmary/soccer-04.gif"/>
          <p:cNvPicPr/>
          <p:nvPr/>
        </p:nvPicPr>
        <p:blipFill>
          <a:blip r:embed="rId4"/>
          <a:stretch/>
        </p:blipFill>
        <p:spPr>
          <a:xfrm>
            <a:off x="7920000" y="1989000"/>
            <a:ext cx="1223640" cy="1223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http://images.google.com.tr/images?q=tbn:X1d0K3qnTQcf3M:www.saintlouisartfair.com/documents/2005%2520Art%2520Fair%2520Merchandise/Grape%2520Fairy%2520T-Shirt.JPG"/>
          <p:cNvPicPr/>
          <p:nvPr/>
        </p:nvPicPr>
        <p:blipFill>
          <a:blip r:embed="rId5"/>
          <a:stretch/>
        </p:blipFill>
        <p:spPr>
          <a:xfrm>
            <a:off x="5076000" y="3717000"/>
            <a:ext cx="1771200" cy="126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j0113262[1]"/>
          <p:cNvPicPr/>
          <p:nvPr/>
        </p:nvPicPr>
        <p:blipFill>
          <a:blip r:embed="rId6"/>
          <a:stretch/>
        </p:blipFill>
        <p:spPr>
          <a:xfrm>
            <a:off x="7164360" y="3861000"/>
            <a:ext cx="1367640" cy="10314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0"/>
          <p:cNvSpPr/>
          <p:nvPr/>
        </p:nvSpPr>
        <p:spPr>
          <a:xfrm>
            <a:off x="4437000" y="91800"/>
            <a:ext cx="26928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882240" y="854640"/>
            <a:ext cx="1378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644000" y="3144240"/>
            <a:ext cx="449964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2-Baseball  is…………………..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9 Dikdörtgen"/>
          <p:cNvSpPr/>
          <p:nvPr/>
        </p:nvSpPr>
        <p:spPr>
          <a:xfrm>
            <a:off x="4932000" y="4941000"/>
            <a:ext cx="367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50 tl                           50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3-T-shirt’s price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skirt’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0 Metin kutusu"/>
          <p:cNvSpPr/>
          <p:nvPr/>
        </p:nvSpPr>
        <p:spPr>
          <a:xfrm>
            <a:off x="2270160" y="3501000"/>
            <a:ext cx="148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the s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1 Metin kutusu"/>
          <p:cNvSpPr/>
          <p:nvPr/>
        </p:nvSpPr>
        <p:spPr>
          <a:xfrm>
            <a:off x="1833840" y="42930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simila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2 Metin kutusu"/>
          <p:cNvSpPr/>
          <p:nvPr/>
        </p:nvSpPr>
        <p:spPr>
          <a:xfrm>
            <a:off x="1907640" y="5877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3 Metin kutusu"/>
          <p:cNvSpPr/>
          <p:nvPr/>
        </p:nvSpPr>
        <p:spPr>
          <a:xfrm>
            <a:off x="755640" y="5877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4 Metin kutusu"/>
          <p:cNvSpPr/>
          <p:nvPr/>
        </p:nvSpPr>
        <p:spPr>
          <a:xfrm>
            <a:off x="6226560" y="2925000"/>
            <a:ext cx="170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differen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5 Metin kutusu"/>
          <p:cNvSpPr/>
          <p:nvPr/>
        </p:nvSpPr>
        <p:spPr>
          <a:xfrm>
            <a:off x="6878880" y="5157360"/>
            <a:ext cx="148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the s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sim 47" descr="Tam boyutlu görseli göster"/>
          <p:cNvPicPr/>
          <p:nvPr/>
        </p:nvPicPr>
        <p:blipFill>
          <a:blip r:embed="rId1">
            <a:grayscl/>
          </a:blip>
          <a:stretch/>
        </p:blipFill>
        <p:spPr>
          <a:xfrm>
            <a:off x="539640" y="548640"/>
            <a:ext cx="1331280" cy="1331280"/>
          </a:xfrm>
          <a:prstGeom prst="rect">
            <a:avLst/>
          </a:prstGeom>
          <a:ln w="0">
            <a:noFill/>
          </a:ln>
        </p:spPr>
      </p:pic>
      <p:pic>
        <p:nvPicPr>
          <p:cNvPr id="256" name="Resim 50" descr="http://tbn0.google.com/images?q=tbn:uPjkHpvqTSuLJM:http://www.nataliedee.com/012607/paid-for-by-lemon-growers-to-foster-lemon-awareness.jpg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620640"/>
            <a:ext cx="1223640" cy="1223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0" y="294480"/>
            <a:ext cx="467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89160" y="787680"/>
            <a:ext cx="11653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23840" y="1859040"/>
            <a:ext cx="5478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 banana is yellow.    A lemon i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) A lemon has the same color with ban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b) A banana isn’t yellow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c) A lemon is the same age with  ban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d) A banana is more comfortable than a lem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sim 5" descr="matematik_afis_-2%255E4esitdegil(-2)%255E4_3508x2481_428kb"/>
          <p:cNvPicPr/>
          <p:nvPr/>
        </p:nvPicPr>
        <p:blipFill>
          <a:blip r:embed="rId3"/>
          <a:stretch/>
        </p:blipFill>
        <p:spPr>
          <a:xfrm>
            <a:off x="5076000" y="3705120"/>
            <a:ext cx="1084680" cy="800280"/>
          </a:xfrm>
          <a:prstGeom prst="rect">
            <a:avLst/>
          </a:prstGeom>
          <a:ln w="0">
            <a:noFill/>
          </a:ln>
        </p:spPr>
      </p:pic>
      <p:pic>
        <p:nvPicPr>
          <p:cNvPr id="261" name="Resim 6" descr="fen"/>
          <p:cNvPicPr/>
          <p:nvPr/>
        </p:nvPicPr>
        <p:blipFill>
          <a:blip r:embed="rId4"/>
          <a:stretch/>
        </p:blipFill>
        <p:spPr>
          <a:xfrm>
            <a:off x="6516360" y="3429000"/>
            <a:ext cx="1439640" cy="1105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4351680" y="749880"/>
            <a:ext cx="4399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3640" y="3720240"/>
            <a:ext cx="413964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5- Maths is     ………… difficult ………….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sim 11" descr="kemal_sunal_"/>
          <p:cNvPicPr/>
          <p:nvPr/>
        </p:nvPicPr>
        <p:blipFill>
          <a:blip r:embed="rId5"/>
          <a:stretch/>
        </p:blipFill>
        <p:spPr>
          <a:xfrm>
            <a:off x="1043640" y="5013000"/>
            <a:ext cx="1115640" cy="863640"/>
          </a:xfrm>
          <a:prstGeom prst="rect">
            <a:avLst/>
          </a:prstGeom>
          <a:ln w="0">
            <a:noFill/>
          </a:ln>
        </p:spPr>
      </p:pic>
      <p:pic>
        <p:nvPicPr>
          <p:cNvPr id="265" name="Resim 12" descr="cem_yilmaz"/>
          <p:cNvPicPr/>
          <p:nvPr/>
        </p:nvPicPr>
        <p:blipFill>
          <a:blip r:embed="rId6"/>
          <a:stretch/>
        </p:blipFill>
        <p:spPr>
          <a:xfrm>
            <a:off x="2411640" y="4941000"/>
            <a:ext cx="1439640" cy="1104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4458240" y="-136080"/>
            <a:ext cx="226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4372920" y="321120"/>
            <a:ext cx="39744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4212000" y="5083920"/>
            <a:ext cx="381600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6- Cem Yılmaz is ……  funny ………  Kemal S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1 Oval"/>
          <p:cNvSpPr/>
          <p:nvPr/>
        </p:nvSpPr>
        <p:spPr>
          <a:xfrm>
            <a:off x="0" y="2421000"/>
            <a:ext cx="467280" cy="287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70" name="22 Metin kutusu"/>
          <p:cNvSpPr/>
          <p:nvPr/>
        </p:nvSpPr>
        <p:spPr>
          <a:xfrm>
            <a:off x="2627640" y="3645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3 Metin kutusu"/>
          <p:cNvSpPr/>
          <p:nvPr/>
        </p:nvSpPr>
        <p:spPr>
          <a:xfrm>
            <a:off x="1115640" y="4005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4 Metin kutusu"/>
          <p:cNvSpPr/>
          <p:nvPr/>
        </p:nvSpPr>
        <p:spPr>
          <a:xfrm>
            <a:off x="6156000" y="5013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5 Metin kutusu"/>
          <p:cNvSpPr/>
          <p:nvPr/>
        </p:nvSpPr>
        <p:spPr>
          <a:xfrm>
            <a:off x="4500000" y="5301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467640" y="967680"/>
            <a:ext cx="468000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7-He is  as…...as a be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stubborn                     c)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b)hardworking              d)slow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sim 493" descr="bee"/>
          <p:cNvPicPr/>
          <p:nvPr/>
        </p:nvPicPr>
        <p:blipFill>
          <a:blip r:embed="rId1"/>
          <a:stretch/>
        </p:blipFill>
        <p:spPr>
          <a:xfrm>
            <a:off x="5148000" y="802080"/>
            <a:ext cx="1151640" cy="960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snowman_clipart_4"/>
          <p:cNvPicPr/>
          <p:nvPr/>
        </p:nvPicPr>
        <p:blipFill>
          <a:blip r:embed="rId2"/>
          <a:stretch/>
        </p:blipFill>
        <p:spPr>
          <a:xfrm>
            <a:off x="539640" y="2349000"/>
            <a:ext cx="742680" cy="875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snowman_clipart_1"/>
          <p:cNvPicPr/>
          <p:nvPr/>
        </p:nvPicPr>
        <p:blipFill>
          <a:blip r:embed="rId3"/>
          <a:stretch/>
        </p:blipFill>
        <p:spPr>
          <a:xfrm>
            <a:off x="1691640" y="2277000"/>
            <a:ext cx="657000" cy="875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470480" y="1204920"/>
            <a:ext cx="659520" cy="25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7 Dikdörtgen"/>
          <p:cNvSpPr/>
          <p:nvPr/>
        </p:nvSpPr>
        <p:spPr>
          <a:xfrm>
            <a:off x="2843640" y="2349000"/>
            <a:ext cx="48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8-This snowman is  ________    to that snow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67640" y="3361680"/>
            <a:ext cx="568836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9-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You are as _______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beautiful as       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B)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an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C)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as beautiful as   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D)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beautif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3060000" y="4588200"/>
            <a:ext cx="5472360" cy="146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10-  A scorpion is as _______ a s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 dangerous as              B) sa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C) dangerous                  D) saf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4"/>
          <a:stretch/>
        </p:blipFill>
        <p:spPr>
          <a:xfrm>
            <a:off x="467640" y="4474800"/>
            <a:ext cx="928440" cy="111420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5"/>
          <a:stretch/>
        </p:blipFill>
        <p:spPr>
          <a:xfrm>
            <a:off x="1763640" y="4581000"/>
            <a:ext cx="935640" cy="909720"/>
          </a:xfrm>
          <a:prstGeom prst="rect">
            <a:avLst/>
          </a:prstGeom>
          <a:ln w="9525">
            <a:noFill/>
          </a:ln>
        </p:spPr>
      </p:pic>
      <p:sp>
        <p:nvSpPr>
          <p:cNvPr id="285" name="13 Metin kutusu"/>
          <p:cNvSpPr/>
          <p:nvPr/>
        </p:nvSpPr>
        <p:spPr>
          <a:xfrm>
            <a:off x="4996080" y="2205000"/>
            <a:ext cx="105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simila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4 Oval"/>
          <p:cNvSpPr/>
          <p:nvPr/>
        </p:nvSpPr>
        <p:spPr>
          <a:xfrm>
            <a:off x="467640" y="1556640"/>
            <a:ext cx="359640" cy="287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87" name="15 Oval"/>
          <p:cNvSpPr/>
          <p:nvPr/>
        </p:nvSpPr>
        <p:spPr>
          <a:xfrm>
            <a:off x="683640" y="3645000"/>
            <a:ext cx="287640" cy="359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88" name="16 Oval"/>
          <p:cNvSpPr/>
          <p:nvPr/>
        </p:nvSpPr>
        <p:spPr>
          <a:xfrm>
            <a:off x="3204000" y="4856040"/>
            <a:ext cx="287640" cy="359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1 Metin kutusu"/>
          <p:cNvSpPr/>
          <p:nvPr/>
        </p:nvSpPr>
        <p:spPr>
          <a:xfrm>
            <a:off x="2978280" y="2277000"/>
            <a:ext cx="34682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tr-TR" sz="4000" spc="-1" strike="noStrike">
                <a:solidFill>
                  <a:srgbClr val="00b050"/>
                </a:solidFill>
                <a:latin typeface="Kristen ITC"/>
              </a:rPr>
              <a:t>PREPAR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tr-TR" sz="4000" spc="-1" strike="noStrike">
                <a:solidFill>
                  <a:srgbClr val="00b050"/>
                </a:solidFill>
                <a:latin typeface="Kristen ITC"/>
              </a:rPr>
              <a:t>ÜMİT KA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hacoco\Local Settings\Temporary Internet Files\Content.IE5\A7QJZ07W\MC900071185[1].wmf"/>
          <p:cNvPicPr/>
          <p:nvPr/>
        </p:nvPicPr>
        <p:blipFill>
          <a:blip r:embed="rId1"/>
          <a:stretch/>
        </p:blipFill>
        <p:spPr>
          <a:xfrm>
            <a:off x="1331640" y="764640"/>
            <a:ext cx="6336360" cy="3954960"/>
          </a:xfrm>
          <a:prstGeom prst="rect">
            <a:avLst/>
          </a:prstGeom>
          <a:ln w="0">
            <a:noFill/>
          </a:ln>
        </p:spPr>
      </p:pic>
      <p:sp>
        <p:nvSpPr>
          <p:cNvPr id="146" name="2 Metin kutusu"/>
          <p:cNvSpPr/>
          <p:nvPr/>
        </p:nvSpPr>
        <p:spPr>
          <a:xfrm>
            <a:off x="1619640" y="4797000"/>
            <a:ext cx="590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tr-TR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Kristen ITC"/>
              </a:rPr>
              <a:t>Jane                   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etin kutusu"/>
          <p:cNvSpPr/>
          <p:nvPr/>
        </p:nvSpPr>
        <p:spPr>
          <a:xfrm>
            <a:off x="1691640" y="5445360"/>
            <a:ext cx="633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Jim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hardworking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J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hacoco\Local Settings\Temporary Internet Files\Content.IE5\A7QJZ07W\MC900330871[1].wmf"/>
          <p:cNvPicPr/>
          <p:nvPr/>
        </p:nvPicPr>
        <p:blipFill>
          <a:blip r:embed="rId1"/>
          <a:stretch/>
        </p:blipFill>
        <p:spPr>
          <a:xfrm>
            <a:off x="1475640" y="908640"/>
            <a:ext cx="6336360" cy="3888000"/>
          </a:xfrm>
          <a:prstGeom prst="rect">
            <a:avLst/>
          </a:prstGeom>
          <a:ln w="0">
            <a:noFill/>
          </a:ln>
        </p:spPr>
      </p:pic>
      <p:sp>
        <p:nvSpPr>
          <p:cNvPr id="149" name="2 Metin kutusu"/>
          <p:cNvSpPr/>
          <p:nvPr/>
        </p:nvSpPr>
        <p:spPr>
          <a:xfrm>
            <a:off x="1187640" y="4797000"/>
            <a:ext cx="705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        </a:t>
            </a: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David                                                 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etin kutusu"/>
          <p:cNvSpPr/>
          <p:nvPr/>
        </p:nvSpPr>
        <p:spPr>
          <a:xfrm>
            <a:off x="2123640" y="5373360"/>
            <a:ext cx="507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David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tall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www.kadin34.com/wp-content/uploads/2010/08/gulben-ergen.jpg"/>
          <p:cNvPicPr/>
          <p:nvPr/>
        </p:nvPicPr>
        <p:blipFill>
          <a:blip r:embed="rId1"/>
          <a:stretch/>
        </p:blipFill>
        <p:spPr>
          <a:xfrm>
            <a:off x="683640" y="1412640"/>
            <a:ext cx="3312000" cy="293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1.loadtr.com/b-475823-h%C3%BClya_av%C5%9Far.jpg"/>
          <p:cNvPicPr/>
          <p:nvPr/>
        </p:nvPicPr>
        <p:blipFill>
          <a:blip r:embed="rId2"/>
          <a:stretch/>
        </p:blipFill>
        <p:spPr>
          <a:xfrm>
            <a:off x="4644000" y="1340640"/>
            <a:ext cx="3333240" cy="2990520"/>
          </a:xfrm>
          <a:prstGeom prst="rect">
            <a:avLst/>
          </a:prstGeom>
          <a:ln w="0">
            <a:noFill/>
          </a:ln>
        </p:spPr>
      </p:pic>
      <p:sp>
        <p:nvSpPr>
          <p:cNvPr id="153" name="3 Metin kutusu"/>
          <p:cNvSpPr/>
          <p:nvPr/>
        </p:nvSpPr>
        <p:spPr>
          <a:xfrm>
            <a:off x="971640" y="4437000"/>
            <a:ext cx="669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Gulben Ergen                          Hulya Av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4 Metin kutusu"/>
          <p:cNvSpPr/>
          <p:nvPr/>
        </p:nvSpPr>
        <p:spPr>
          <a:xfrm>
            <a:off x="395640" y="5301360"/>
            <a:ext cx="813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Gulben Ergen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beautiful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Hulya Av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gulum.net/kartlari-resimleri/araba-resimleri/images/araba-resmi1.jpg"/>
          <p:cNvPicPr/>
          <p:nvPr/>
        </p:nvPicPr>
        <p:blipFill>
          <a:blip r:embed="rId1"/>
          <a:stretch/>
        </p:blipFill>
        <p:spPr>
          <a:xfrm>
            <a:off x="323640" y="1340640"/>
            <a:ext cx="3960000" cy="264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gulum.net/kartlari-resimleri/araba-resimleri/images/araba-resmi6.jpg"/>
          <p:cNvPicPr/>
          <p:nvPr/>
        </p:nvPicPr>
        <p:blipFill>
          <a:blip r:embed="rId2"/>
          <a:stretch/>
        </p:blipFill>
        <p:spPr>
          <a:xfrm>
            <a:off x="4068000" y="2061000"/>
            <a:ext cx="4508280" cy="2691360"/>
          </a:xfrm>
          <a:prstGeom prst="rect">
            <a:avLst/>
          </a:prstGeom>
          <a:ln w="0">
            <a:noFill/>
          </a:ln>
        </p:spPr>
      </p:pic>
      <p:sp>
        <p:nvSpPr>
          <p:cNvPr id="157" name="3 Metin kutusu"/>
          <p:cNvSpPr/>
          <p:nvPr/>
        </p:nvSpPr>
        <p:spPr>
          <a:xfrm>
            <a:off x="467640" y="4149000"/>
            <a:ext cx="309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Mehmet’s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(70000 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4 Metin kutusu"/>
          <p:cNvSpPr/>
          <p:nvPr/>
        </p:nvSpPr>
        <p:spPr>
          <a:xfrm>
            <a:off x="4572000" y="4797000"/>
            <a:ext cx="374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Ahmet’s car     (70000 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6 Metin kutusu"/>
          <p:cNvSpPr/>
          <p:nvPr/>
        </p:nvSpPr>
        <p:spPr>
          <a:xfrm>
            <a:off x="395640" y="5445360"/>
            <a:ext cx="813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hmet’s car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expensiv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Mehmet’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resimlive.com/data/media/833/Sisman_Bebek.jpg"/>
          <p:cNvPicPr/>
          <p:nvPr/>
        </p:nvPicPr>
        <p:blipFill>
          <a:blip r:embed="rId1"/>
          <a:stretch/>
        </p:blipFill>
        <p:spPr>
          <a:xfrm>
            <a:off x="611640" y="1484640"/>
            <a:ext cx="3916440" cy="316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www.estetikmoda.com/wp-content/uploads/obez-sisman-kilolu-obezite24.jpg"/>
          <p:cNvPicPr/>
          <p:nvPr/>
        </p:nvPicPr>
        <p:blipFill>
          <a:blip r:embed="rId2"/>
          <a:stretch/>
        </p:blipFill>
        <p:spPr>
          <a:xfrm>
            <a:off x="5292000" y="924480"/>
            <a:ext cx="2880000" cy="3801600"/>
          </a:xfrm>
          <a:prstGeom prst="rect">
            <a:avLst/>
          </a:prstGeom>
          <a:ln w="0">
            <a:noFill/>
          </a:ln>
        </p:spPr>
      </p:pic>
      <p:sp>
        <p:nvSpPr>
          <p:cNvPr id="162" name="3 Metin kutusu"/>
          <p:cNvSpPr/>
          <p:nvPr/>
        </p:nvSpPr>
        <p:spPr>
          <a:xfrm>
            <a:off x="899640" y="4797000"/>
            <a:ext cx="669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Max (25 kg)                                     Hans (25 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Metin kutusu"/>
          <p:cNvSpPr/>
          <p:nvPr/>
        </p:nvSpPr>
        <p:spPr>
          <a:xfrm>
            <a:off x="1799280" y="5517360"/>
            <a:ext cx="734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Hans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heavy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pembesiyah.com/fotogaleri/36cf106f8fe5bf14453b149733416b8e-0e89b5af32fa69d2d0027f9b20a371d5yasli.jpg"/>
          <p:cNvPicPr/>
          <p:nvPr/>
        </p:nvPicPr>
        <p:blipFill>
          <a:blip r:embed="rId1"/>
          <a:stretch/>
        </p:blipFill>
        <p:spPr>
          <a:xfrm>
            <a:off x="683640" y="836640"/>
            <a:ext cx="4104000" cy="345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t0.gstatic.com/images?q=tbn:xTFoaqjXoE2kwM: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000" y="1542600"/>
            <a:ext cx="4032000" cy="3224520"/>
          </a:xfrm>
          <a:prstGeom prst="rect">
            <a:avLst/>
          </a:prstGeom>
          <a:ln w="0">
            <a:noFill/>
          </a:ln>
        </p:spPr>
      </p:pic>
      <p:sp>
        <p:nvSpPr>
          <p:cNvPr id="166" name="3 Metin kutusu"/>
          <p:cNvSpPr/>
          <p:nvPr/>
        </p:nvSpPr>
        <p:spPr>
          <a:xfrm>
            <a:off x="1550520" y="4365000"/>
            <a:ext cx="190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Adile Nene (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etin kutusu"/>
          <p:cNvSpPr/>
          <p:nvPr/>
        </p:nvSpPr>
        <p:spPr>
          <a:xfrm>
            <a:off x="5540040" y="4797000"/>
            <a:ext cx="216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Fadime Nene (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etin kutusu"/>
          <p:cNvSpPr/>
          <p:nvPr/>
        </p:nvSpPr>
        <p:spPr>
          <a:xfrm>
            <a:off x="1058760" y="5373360"/>
            <a:ext cx="6577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dile Nene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old as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 Fadime N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hacoco\Local Settings\Temporary Internet Files\Content.IE5\YZUJI52B\MP900409041[1].jpg"/>
          <p:cNvPicPr/>
          <p:nvPr/>
        </p:nvPicPr>
        <p:blipFill>
          <a:blip r:embed="rId1"/>
          <a:stretch/>
        </p:blipFill>
        <p:spPr>
          <a:xfrm>
            <a:off x="1143000" y="404640"/>
            <a:ext cx="6453000" cy="4392000"/>
          </a:xfrm>
          <a:prstGeom prst="rect">
            <a:avLst/>
          </a:prstGeom>
          <a:ln w="0">
            <a:noFill/>
          </a:ln>
        </p:spPr>
      </p:pic>
      <p:sp>
        <p:nvSpPr>
          <p:cNvPr id="170" name="2 Metin kutusu"/>
          <p:cNvSpPr/>
          <p:nvPr/>
        </p:nvSpPr>
        <p:spPr>
          <a:xfrm>
            <a:off x="1908360" y="4869000"/>
            <a:ext cx="469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Melisa                                                     Me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etin kutusu"/>
          <p:cNvSpPr/>
          <p:nvPr/>
        </p:nvSpPr>
        <p:spPr>
          <a:xfrm>
            <a:off x="2717280" y="5301360"/>
            <a:ext cx="433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ek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tall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Metin kutusu"/>
          <p:cNvSpPr/>
          <p:nvPr/>
        </p:nvSpPr>
        <p:spPr>
          <a:xfrm>
            <a:off x="2594880" y="5805360"/>
            <a:ext cx="451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isa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short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10</TotalTime>
  <Application>LibreOffice/7.4.7.2$Linux_X86_64 LibreOffice_project/40$Build-2</Application>
  <AppVersion>15.0000</AppVersion>
  <Words>542</Words>
  <Paragraphs>115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7:09Z</dcterms:created>
  <dc:creator>Your User Name</dc:creator>
  <dc:description/>
  <dc:language>en-US</dc:language>
  <cp:lastModifiedBy>RESSAM ŞEVKET DAĞ</cp:lastModifiedBy>
  <dcterms:modified xsi:type="dcterms:W3CDTF">2011-01-02T11:34:25Z</dcterms:modified>
  <cp:revision>25</cp:revision>
  <dc:subject/>
  <dc:title>AS…AS DIFFERENT FROM… THE SAME AS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Ekran Gösterisi (4:3)</vt:lpwstr>
  </property>
  <property fmtid="{D5CDD505-2E9C-101B-9397-08002B2CF9AE}" pid="3" name="Slides">
    <vt:r8>27</vt:r8>
  </property>
</Properties>
</file>